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E73A-FE4C-46F0-8BE5-D2263ECA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64F2-21D8-4CEA-9F90-E7B76753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7449-E714-41EC-8AB8-2BADF98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6031-A956-49E5-9BC5-FFF194A8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31E3-E2D7-4CE7-BEEC-CC41C694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1484-0C17-4D42-BFCE-83BCE742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1930-F2B8-4B2A-A4FB-A234E70F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0ECF-2F36-46C7-A5D9-39BDE603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9580-A21A-4A41-A6BF-D5B3132B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B9C9-BB0F-4EB3-8E30-E736D862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4D33-2681-481F-9541-D6F722A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6BC5-6590-48D5-A49E-0311D62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1E7-EB90-48CD-9B76-6886CC99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A94C-A507-4A08-B8F7-9A5B24E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08A7-2974-4D53-B1EE-66845C48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78C-26C9-4BC7-9BB6-B7AB7A57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338F-9F77-4860-A028-CEB016DA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B5F0-ACE6-49C8-B906-92B54C0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46C3-C781-4B6F-A10F-9CE0653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C997-F6C5-4E41-B9C4-1E4FA3BA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CB50-D562-4C2A-9D74-36B3124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1D83-C05B-4370-A366-428E77B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1F4D-0A03-4888-8229-9DCF6DB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2453-2283-4431-8258-BD6841C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21A-3A3A-46B6-BF4D-5CFEBDCB2A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6E67-FCF0-47EF-85BE-BE656A3581E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4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8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Един ощ' ден за тебе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е праведн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по-малко още за мен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земни трудни дни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труд блаж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-скъп от ден на д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ощ' ден за Т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е, в службата 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ен един по-малк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земни трудни д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О, колко е любез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 славен Господар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ен е радост, славно блаженств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хваля моя Ц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ушата 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му ще пей псалм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ощ' ден за Т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е, в службата 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ен един по-малк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земни трудни д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944640"/>
            <a:ext cx="95774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3. Христа да проповядвам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не ще пожаля труд!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В чест и безчестие Него ще следвам, във пек и в зимен студ!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След тоз труд мой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ще следва мир, покой!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ощ' ден за Т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усе, в службата 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мен един по-малк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земни трудни д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7T16:39:58Z</dcterms:modified>
  <cp:revision>176</cp:revision>
  <dc:subject/>
  <dc:title>Slide 1</dc:title>
</cp:coreProperties>
</file>